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9.png" ContentType="image/png"/>
  <Override PartName="/ppt/media/image12.png" ContentType="image/pn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1E9CE-6B58-4044-8BDE-0E9DDFBE8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E4EAF-6196-4526-9948-D362575A1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36EDD-DA9E-4244-A699-F361273F6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B92BF-00ED-49C5-84A5-5EC15E989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9BAFD-F458-4772-8022-F7ECB2EC9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5F7DD-99D2-458F-8F6E-EEB02A0CF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2A543-F997-4534-A80E-BE51AD0B6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18472-2C52-4B0B-85B3-7E1382B60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5658B-08A8-489E-8215-F5FA1A4AC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4FBDB-21ED-4C24-9EA3-5441635ED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329A8-97CA-4049-A78D-34D402C5F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0B863-8AFF-4F1B-B585-F0BC75AE7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50000">
              <a:srgbClr val="ffff00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4314A-922C-4DCA-8E13-15E67691A4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50000">
              <a:srgbClr val="ffff00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ilip II of Spa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819520" y="1676520"/>
            <a:ext cx="3279600" cy="445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6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50000">
              <a:srgbClr val="ffff00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utch Revol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-360" y="990360"/>
            <a:ext cx="5715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au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igious conflict (Protestantism vs. Catholicis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18,ooo were killed when Phillip II ordered the enforcement of laws against Protest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ff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st 7 Netherland provinces in 1581, mostly Protes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562720" y="1828800"/>
            <a:ext cx="3352680" cy="25448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5562720" y="4572000"/>
            <a:ext cx="358128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anish Inquis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50000">
              <a:srgbClr val="ffff00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vents of Reig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ttled France for control of Ita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tacked Turkish strongholds in Mediterrane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tch Revolts in United Provinces of the Netherlands (1560’s – 157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anish Armada  (1588), unsuccessful attack on Engl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62120" y="4343400"/>
            <a:ext cx="7696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422440" y="62373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4416480"/>
            <a:ext cx="868680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y attack Englan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1)To prevent England from supporting the Dutch rebels, (2) from pursuing New World efforts and (3) the spread of Protestantism (Queen Elizabet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50000">
              <a:srgbClr val="ffff00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vents of Reig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ttled France for control of Ita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tacked Turkish strongholds in Mediterrane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tch Revolts in United Provinces of the Netherlands (1560’s – 157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anish Armada  (1588), unsuccessful attack on Engl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conomic instability – Inflation and drained treasu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50000">
              <a:srgbClr val="ffff00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urces of Economic Instabil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3848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lation caused by huge imports of gold and silver from New Wor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 taxes on lower classes prevented the development of a middle cl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uilds kept domestic prices high, so people brought foreign goods (trade imbalanc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stly w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4762440" y="2176560"/>
            <a:ext cx="4152960" cy="31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50000">
              <a:srgbClr val="ffff00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uring Philip II’s reign, Spain’s empire began to weaken.  What evidence supports this stateme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8305920" y="61722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40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3" dur="32888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50000">
              <a:srgbClr val="ffff00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complish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ing of Spanish Empire from 1556 – 1598    Acquired empire from his father, Charles I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895480"/>
            <a:ext cx="7391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33520" y="2590920"/>
            <a:ext cx="8153280" cy="35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Philip II inherited had a marked impact on his decades as king of Spain.  Two important factors we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Country (Spain) bound by Catholic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panish Netherlands: which financially supported the Spanish Empire’s foreign matters with their large shipping fleet and strong econom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50000">
              <a:srgbClr val="ffff00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complish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ing of Spanish Empire from 1556 – 1598    Acquired empire from his father, Charles I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ulture blossomed – “Golden Age of Spain” (1550 – 165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9144000" cy="289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 Greco – painted saints &amp; martyrs; deeply religio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ego Velazquez – painted portraits of royal family and court lif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vantes –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Don Quixo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birth of the modern no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50000">
              <a:srgbClr val="ffff00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complish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-360" y="1219320"/>
            <a:ext cx="8839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ing of Spanish Empire from 1556 – 1598    Acquired empire from his father, Charles I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lture blossomed – “Golden Age of Spain” (1550 – 165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nt Jesuit priests to convert Protestants all over Europe – winning parts of Germany, E. Europe &amp; Netherla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5029200" y="4114800"/>
            <a:ext cx="3657600" cy="27432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0" y="4495680"/>
            <a:ext cx="4876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d Catholic reformation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a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50000">
              <a:srgbClr val="ffff00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omplish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ing of Spanish Empire from 1556 – 1598    Acquired empire from his father, Charles 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lture blossomed – “Golden Age of Spain” (1550 – 165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nt Jesuit priests to convert Protestants all over Europe – winning parts of Germany, E. Europe &amp; Netherl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d Catholic reformation in Spa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avily supported the expansion of the Spanish Empire into the New Wor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50000">
              <a:srgbClr val="ffff00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accomplishments exemplify Philip II as an absolute monarc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8153280" y="6172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68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1" dur="32888" fill="hold"/>
                                        <p:tgtEl>
                                          <p:spTgt spid="1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50000">
              <a:srgbClr val="ffff00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iography of Philip I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0" y="2252520"/>
            <a:ext cx="6750720" cy="3304440"/>
            <a:chOff x="0" y="2252520"/>
            <a:chExt cx="6750720" cy="3304440"/>
          </a:xfrm>
        </p:grpSpPr>
        <p:cxnSp>
          <p:nvCxnSpPr>
            <p:cNvPr id="45" name="_s12305"/>
            <p:cNvCxnSpPr>
              <a:stCxn id="46" idx="1"/>
              <a:endCxn id="47" idx="2"/>
            </p:cNvCxnSpPr>
            <p:nvPr/>
          </p:nvCxnSpPr>
          <p:spPr>
            <a:xfrm rot="10800000">
              <a:off x="1798200" y="2734200"/>
              <a:ext cx="600120" cy="25826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8" name="_s12300"/>
            <p:cNvCxnSpPr>
              <a:stCxn id="49" idx="1"/>
              <a:endCxn id="47" idx="2"/>
            </p:cNvCxnSpPr>
            <p:nvPr/>
          </p:nvCxnSpPr>
          <p:spPr>
            <a:xfrm rot="10800000">
              <a:off x="1798200" y="2734200"/>
              <a:ext cx="600120" cy="18752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0" name="_s12299"/>
            <p:cNvCxnSpPr>
              <a:stCxn id="51" idx="1"/>
              <a:endCxn id="47" idx="2"/>
            </p:cNvCxnSpPr>
            <p:nvPr/>
          </p:nvCxnSpPr>
          <p:spPr>
            <a:xfrm rot="10800000">
              <a:off x="1798200" y="2734200"/>
              <a:ext cx="600120" cy="11710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2" name="_s12298"/>
            <p:cNvCxnSpPr>
              <a:stCxn id="53" idx="1"/>
              <a:endCxn id="47" idx="2"/>
            </p:cNvCxnSpPr>
            <p:nvPr/>
          </p:nvCxnSpPr>
          <p:spPr>
            <a:xfrm rot="10800000">
              <a:off x="1798200" y="2734200"/>
              <a:ext cx="600120" cy="4640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47" name="_s12294"/>
            <p:cNvSpPr/>
            <p:nvPr/>
          </p:nvSpPr>
          <p:spPr>
            <a:xfrm>
              <a:off x="0" y="2252520"/>
              <a:ext cx="3598200" cy="4824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040" rIns="68040" tIns="34200" bIns="34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ives of Philip I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_s12295"/>
            <p:cNvSpPr/>
            <p:nvPr/>
          </p:nvSpPr>
          <p:spPr>
            <a:xfrm>
              <a:off x="2398680" y="2958120"/>
              <a:ext cx="4352040" cy="4820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040" rIns="68040" tIns="34200" bIns="34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aria Manuela of Portugal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_s12296"/>
            <p:cNvSpPr/>
            <p:nvPr/>
          </p:nvSpPr>
          <p:spPr>
            <a:xfrm>
              <a:off x="2398680" y="3663720"/>
              <a:ext cx="4352040" cy="4820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040" rIns="68040" tIns="34200" bIns="34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ary Tudor of England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_s12297"/>
            <p:cNvSpPr/>
            <p:nvPr/>
          </p:nvSpPr>
          <p:spPr>
            <a:xfrm>
              <a:off x="2398680" y="4368960"/>
              <a:ext cx="4352040" cy="4824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040" rIns="68040" tIns="34200" bIns="34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lizabeth of Valois (in France)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_s12304"/>
            <p:cNvSpPr/>
            <p:nvPr/>
          </p:nvSpPr>
          <p:spPr>
            <a:xfrm>
              <a:off x="2398680" y="5074920"/>
              <a:ext cx="4352040" cy="4820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040" rIns="68040" tIns="34200" bIns="34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nne of Austria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86200" y="1294920"/>
            <a:ext cx="5029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rn in 152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gan his reign in January 155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ed in 159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6705720" y="4152960"/>
            <a:ext cx="2238120" cy="27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50000">
              <a:srgbClr val="ffff00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characteristics does Philip II posses that make him an absolute monarc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50000">
              <a:srgbClr val="ffff00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anish Empire of Philip I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066680" y="1219320"/>
            <a:ext cx="746784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50000">
              <a:srgbClr val="ffff00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Philip’s II Personal Characteristic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5562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ll Read and Educ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eply Religious - Catholicis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rdworking, “workaholic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joyed the Arts and Mus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udent - Mistrusted his own judgment and relied on the advice of othe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spicio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lieved in Divine R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33520" y="6095880"/>
            <a:ext cx="8153280" cy="520560"/>
          </a:xfrm>
          <a:prstGeom prst="rect">
            <a:avLst/>
          </a:prstGeom>
          <a:noFill/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hilip II of Sp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5562720" y="2057400"/>
            <a:ext cx="3438360" cy="32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50000">
              <a:srgbClr val="ffff00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me Sweet Ho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51920" y="1219320"/>
            <a:ext cx="43434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scorial Pal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→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Libr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utside Pictures of Pal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28600" y="3429000"/>
            <a:ext cx="3733920" cy="25891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3733920" y="4373640"/>
            <a:ext cx="3878280" cy="24843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4952880" y="1447920"/>
            <a:ext cx="3784680" cy="283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50000">
              <a:srgbClr val="ffff00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81532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reate a list of 4 adjectives that you would use to describe Philip II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8153280" y="6095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restart="whenNotActive" nodeType="interactiveSeq" fill="hold">
                <p:stCondLst>
                  <p:cond evt="onClick">
                    <p:tgtEl>
                      <p:spTgt spid="69"/>
                    </p:tgtEl>
                  </p:cond>
                </p:stCondLst>
                <p:childTnLst>
                  <p:par>
                    <p:cTn id="13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" dur="32888" fill="hold"/>
                                        <p:tgtEl>
                                          <p:spTgt spid="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50000">
              <a:srgbClr val="ffff00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vents of Reig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ttled France for control of Ita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0" y="1752480"/>
            <a:ext cx="891540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conquer Ital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illip II feared that the French would have control of the Mediterranean Sea and also; Muslim Turks would conquer Italy and eventually attack his empi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2133720" y="3786120"/>
            <a:ext cx="441936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50000">
              <a:srgbClr val="ffff00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vents of Reig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ttled France for control of Ita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ttacked Turkish strongholds in Mediterrane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0" y="2666880"/>
            <a:ext cx="4038480" cy="309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Battle of Lepan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57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eece/Spanish fleet defeated Turkish Navy; yet not able to drive from Mediterranean S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4038480" y="4000680"/>
            <a:ext cx="510552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50000">
              <a:srgbClr val="ffff00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vents of Reig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ttled France for control of Ita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tacked Turkish strongholds in Mediterrane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utch Revol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 United Provinces of the Netherland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1560’s – 157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2971800" y="3573360"/>
            <a:ext cx="365760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4T22:28:21Z</dcterms:created>
  <dc:creator>Karen Doolittle</dc:creator>
  <dc:description/>
  <dc:language>en-US</dc:language>
  <cp:lastModifiedBy>Karen Doolittle</cp:lastModifiedBy>
  <dcterms:modified xsi:type="dcterms:W3CDTF">2003-09-17T09:44:44Z</dcterms:modified>
  <cp:revision>20</cp:revision>
  <dc:subject/>
  <dc:title>Slide 1</dc:title>
</cp:coreProperties>
</file>